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F3C-6497-4526-B364-1B30EE98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258-83C2-47ED-BE7E-623591B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85F-0BA1-4806-AF51-45C9635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962-7ED9-4781-99DC-88700947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C9EE-4E1E-48D0-A068-0A52EF6D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60A0-CA81-4FAE-B8A5-FA08D585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5AD-7465-492D-9CF8-90804C9B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885-9D04-4DC7-B3DF-733A58E9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BEF6-8B97-4B09-8E1F-BCF4A68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876F-92F5-46FC-99CB-3860D8C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AEC-5832-48A7-9BA4-F8DA847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814-C86E-40B4-A936-5D2BC89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2A11-BECD-438B-9334-6F35680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9B15-8977-4E17-BC4F-42A7D96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C64-04F0-4CE5-BFB7-AAF98C9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8ED3-AA0E-4DC6-B2FD-AAE3BAC9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CE4D-FE54-4D0C-828D-300DD6F3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9A7-CA4D-4FE7-8C96-A2A3421C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16B-19F6-4BBA-BACE-1A98FAD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332-966D-4F50-820B-2F0F743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292-EB0A-4C25-BD0D-FB52438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097-EFE9-4C98-99D2-3B35790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9C9-A4C8-4A07-846D-ADC04D1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3A0-9107-4670-85A0-4A22FBCD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5B1E-58E1-4E80-9946-825AE8DA22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0D4-5457-497D-9707-86E9B1AE25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Agent Orange"/>
              </a:rPr>
              <a:t>Mary Antonette B. Ur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430080"/>
            <a:ext cx="76960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tudent of the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Room 6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October 02,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Agent Orange"/>
              </a:rPr>
              <a:t>Fun Facts about Mar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has a dog named Penel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loves to play the p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is currently enrolled in a ballet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5181480"/>
            <a:ext cx="56386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Agent Orange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56cbe6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 placer Spelling Contes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Reader of the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56cbe6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 placer Elocution Contes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47560" y="33526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eep up the good job! 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1760" y="144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gent Orange"/>
              </a:rPr>
              <a:t>CONGRATULATIONS Mary for being the Student of the week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8:43:49Z</dcterms:created>
  <dc:creator>madrid</dc:creator>
  <dc:description/>
  <dc:language>en-US</dc:language>
  <cp:lastModifiedBy>madrid</cp:lastModifiedBy>
  <dcterms:modified xsi:type="dcterms:W3CDTF">2012-10-01T14:02:19Z</dcterms:modified>
  <cp:revision>3</cp:revision>
  <dc:subject/>
  <dc:title>Mary Antonette B. Uro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